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CDF4-6EEB-40C5-89AC-7F02DBA96E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8C4D-9CBA-4E61-88E1-DF551338D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FD1E-E8BF-4FC7-ACB8-F2877CAF1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00BB-A3B2-4246-AF9D-26C644409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8FE7-0DC5-4938-A339-4D4C154F8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B9E1-5AFC-47DA-9ED0-CA960A77D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443-7619-479F-AB5E-E5CF8B268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1D8B-FCA0-4E3B-9784-D1BE74704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05F-5FCF-41EC-BE1F-4F66F3B0D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354-601E-445D-8807-83E05A408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A054-0008-4DB5-B038-5491247B6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978-8560-4627-BBCF-F5F1B7F76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862-BDC2-4F5F-8F41-0369AD79E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1D0-4701-4A17-BBC2-1A7A61963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15D-3F46-4C29-94E0-6E77A395B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89C-EF51-4739-A9BB-D3FB569DE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7D8F-B2D7-4729-B6C6-67FDA003D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FD0-ED9B-46DE-BC57-948FD26DC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7406-0822-463B-8742-1CF29A4A2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2FB1-BA3F-43AC-99D6-3E86C0168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C89-4BDB-4E71-8F68-48CBA5FE9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C561-65B4-4999-A731-03DE6C2EF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9C75-42BB-42F4-82C6-B47D04A4D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F924-EE85-419D-8B8B-C208E8604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A414-751B-4DEE-8816-905B39C8B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F16E-2DCB-4EAD-B1DB-093F354B7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639-3320-4677-99C4-3C0F8E815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1389-CCF6-4AF1-AD5D-2934E090D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6CC-CB5A-4F8C-8F13-5EF91786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2EF-C7D1-4CF5-A1AF-6F00D177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ACF-4929-4ADC-A3A7-66A3DB58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1B4-B1FE-4944-BC06-B961C926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8ACB-02F1-46E6-9AEE-AD5B85E3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9C5-8240-48A9-B7EB-6214238C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5000-63B6-44F7-AE65-0BF4C8A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4437-A774-4142-8532-D10A997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B22E-1ABA-4C44-B6D3-3A39A1A3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5536-DFD5-4657-AC17-0FA93FC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4B6-60C3-4D6B-AD7D-4CFE0A6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E49-7F45-42CE-97B6-24A7238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5A5B-73D3-4FAB-86D7-65546C3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FECA-B5A9-4FA2-A768-E77AFB1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F9D7-0B7D-4D3A-839D-2BE79179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3036-27EE-499F-B0E7-26125F2A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912C-0FB2-466D-938D-50498923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0A9-3780-4726-AAE4-350B0F5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B6A-2525-42E0-8C84-09CC2200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29E-FBA2-469D-B6A9-86A3EC14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EDB-31CA-4B3E-B776-05163F1F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8D9-A9CF-4D31-97CC-9E52046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00C-342D-4C46-91CE-F5B5B11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125-0220-4C22-99B6-ACC9E17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D06-48F9-4887-ACDC-00EA9CE38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0126-8D8B-42DD-B9BA-1543EFBC2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45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49360" y="3200400"/>
            <a:ext cx="25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is us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r is usu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63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70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85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87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193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00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02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1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20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2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4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15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0240" y="5698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Eye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Jill Luckey</cp:lastModifiedBy>
  <dcterms:modified xsi:type="dcterms:W3CDTF">2017-12-06T13:49:12Z</dcterms:modified>
  <cp:revision>30</cp:revision>
  <dc:subject/>
  <dc:title>Slide 1</dc:title>
</cp:coreProperties>
</file>